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3d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" name="Bild 8" descr=""/>
          <p:cNvPicPr/>
          <p:nvPr/>
        </p:nvPicPr>
        <p:blipFill>
          <a:blip r:embed="rId2"/>
          <a:stretch/>
        </p:blipFill>
        <p:spPr>
          <a:xfrm>
            <a:off x="0" y="6350040"/>
            <a:ext cx="9144000" cy="507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4" descr="SUB-rechts-weiss"/>
          <p:cNvPicPr/>
          <p:nvPr/>
        </p:nvPicPr>
        <p:blipFill>
          <a:blip r:embed="rId3"/>
          <a:stretch/>
        </p:blipFill>
        <p:spPr>
          <a:xfrm>
            <a:off x="6095880" y="6477120"/>
            <a:ext cx="2749680" cy="2286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5" descr="unilogo_gro_weiss"/>
          <p:cNvPicPr/>
          <p:nvPr/>
        </p:nvPicPr>
        <p:blipFill>
          <a:blip r:embed="rId4"/>
          <a:stretch/>
        </p:blipFill>
        <p:spPr>
          <a:xfrm>
            <a:off x="179280" y="6419880"/>
            <a:ext cx="2133720" cy="412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411280" y="6405120"/>
            <a:ext cx="360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[Anlass der Präsentation]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ild 8" descr=""/>
          <p:cNvPicPr/>
          <p:nvPr/>
        </p:nvPicPr>
        <p:blipFill>
          <a:blip r:embed="rId2"/>
          <a:stretch/>
        </p:blipFill>
        <p:spPr>
          <a:xfrm>
            <a:off x="0" y="6350040"/>
            <a:ext cx="9144000" cy="507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8" descr="unilogo_gro_weiss"/>
          <p:cNvPicPr/>
          <p:nvPr/>
        </p:nvPicPr>
        <p:blipFill>
          <a:blip r:embed="rId3"/>
          <a:stretch/>
        </p:blipFill>
        <p:spPr>
          <a:xfrm>
            <a:off x="2498760" y="6408720"/>
            <a:ext cx="213372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3" descr="IMG_0787"/>
          <p:cNvPicPr/>
          <p:nvPr/>
        </p:nvPicPr>
        <p:blipFill>
          <a:blip r:embed="rId4"/>
          <a:srcRect l="8933" t="30051" r="9259" b="24143"/>
          <a:stretch/>
        </p:blipFill>
        <p:spPr>
          <a:xfrm>
            <a:off x="2543040" y="3886200"/>
            <a:ext cx="6600960" cy="2463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SUB-links"/>
          <p:cNvPicPr/>
          <p:nvPr/>
        </p:nvPicPr>
        <p:blipFill>
          <a:blip r:embed="rId5"/>
          <a:stretch/>
        </p:blipFill>
        <p:spPr>
          <a:xfrm>
            <a:off x="1235160" y="1268280"/>
            <a:ext cx="4800600" cy="401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3d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11280" y="2565360"/>
            <a:ext cx="643104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a3d66"/>
                </a:solidFill>
                <a:latin typeface="Arial"/>
              </a:rPr>
              <a:t>Zum Projekt </a:t>
            </a:r>
            <a:r>
              <a:rPr b="0" i="1" lang="de-DE" sz="2400" spc="-1" strike="noStrike">
                <a:solidFill>
                  <a:srgbClr val="1a3d66"/>
                </a:solidFill>
                <a:latin typeface="Arial"/>
              </a:rPr>
              <a:t>Entwicklung von interoperablen Standards für die Kontextualisierung heterogener Objekte am Beispiel der Provenienz Asch</a:t>
            </a: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84360" y="342864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Dr. Susanne Al-Eryani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01.12.2014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a3d66"/>
                </a:solidFill>
                <a:latin typeface="Arial"/>
              </a:rPr>
              <a:t>Institut für Zoologie und Anthropologie: Zoologisches Museum</a:t>
            </a:r>
            <a:br>
              <a:rPr sz="2400"/>
            </a:b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594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de-DE" sz="160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16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Fußzeilenplatzhalter 4"/>
          <p:cNvSpPr/>
          <p:nvPr/>
        </p:nvSpPr>
        <p:spPr>
          <a:xfrm>
            <a:off x="2411280" y="6405480"/>
            <a:ext cx="36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[Anlass der Präsentation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X:\Digitalisierte Verzeichnisse\SUB-Cod-Ms-Asch\JPG-Version\1780-1782-JPG\Cod_Ms_Asch_1_0145.jpg"/>
          <p:cNvPicPr/>
          <p:nvPr/>
        </p:nvPicPr>
        <p:blipFill>
          <a:blip r:embed="rId1"/>
          <a:stretch/>
        </p:blipFill>
        <p:spPr>
          <a:xfrm>
            <a:off x="395280" y="1368360"/>
            <a:ext cx="410364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55640" y="3068640"/>
            <a:ext cx="63579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a3d66"/>
                </a:solidFill>
                <a:latin typeface="Arial"/>
              </a:rPr>
              <a:t>Vielen Dank!</a:t>
            </a: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484360" y="2636640"/>
            <a:ext cx="64008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a3d66"/>
                </a:solidFill>
                <a:latin typeface="Arial"/>
              </a:rPr>
              <a:t>Zum ASCH-Projekt</a:t>
            </a: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1280" y="4076640"/>
            <a:ext cx="4189320" cy="2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Königlich Academisches Museum, 1773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968720" cy="244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508720" y="1413000"/>
            <a:ext cx="36352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808080"/>
                </a:solidFill>
                <a:latin typeface="Arial"/>
              </a:rPr>
              <a:t>gefördert von der DF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808080"/>
                </a:solidFill>
                <a:latin typeface="Arial"/>
              </a:rPr>
              <a:t>Laufzeit: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 01.09.2014 - 31.08.2017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808080"/>
                </a:solidFill>
                <a:latin typeface="Arial"/>
              </a:rPr>
              <a:t>Projektleitung: 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Stefanie Rühl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808080"/>
                </a:solidFill>
                <a:latin typeface="Arial"/>
              </a:rPr>
              <a:t>Team: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 Dr. Susanne Al-Eryani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            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Dr. Gudrun Bucher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            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Jürgen Doenitz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808080"/>
                </a:solidFill>
                <a:latin typeface="Arial"/>
              </a:rPr>
              <a:t>beteiligte Abteilungen der SUB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Metadaten und Datenkonversion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Reproduktion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Software- u. Serviceentwicklu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" name="Fußzeilenplatzhalter 4"/>
          <p:cNvSpPr/>
          <p:nvPr/>
        </p:nvSpPr>
        <p:spPr>
          <a:xfrm>
            <a:off x="2411280" y="6405480"/>
            <a:ext cx="36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[Anlass der Präsentation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a3d66"/>
                </a:solidFill>
                <a:latin typeface="Arial"/>
              </a:rPr>
              <a:t>Die 7 Partner: Institutionen mit historischen Beständen der Provenienz von Asch</a:t>
            </a: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20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UB Göttingen: Alte Drucke, Handschriften und Seltene Drucke, Universitätsarchiv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rchäologisches Institut: Münzkabinet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Institut für Ethnologie: Ethnologische Sammlu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Geowissenschaftliches Zentrum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Historische Sammlunge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Kunstgeschichtliches Seminar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Kunstsammlu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Zentrum Anatomie: Blumenbach’sche Schädelsammlu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Institut für Zoologie und Anthropologie: Zoologisches Museu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Fußzeilenplatzhalter 3"/>
          <p:cNvSpPr/>
          <p:nvPr/>
        </p:nvSpPr>
        <p:spPr>
          <a:xfrm>
            <a:off x="2411280" y="6405480"/>
            <a:ext cx="36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[Anlass der Präsentation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ußzeilenplatzhalter 4"/>
          <p:cNvSpPr/>
          <p:nvPr/>
        </p:nvSpPr>
        <p:spPr>
          <a:xfrm>
            <a:off x="2411280" y="6405480"/>
            <a:ext cx="36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[Anlass der Präsentation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a3d66"/>
                </a:solidFill>
                <a:latin typeface="Arial"/>
              </a:rPr>
              <a:t>SUB Göttingen: Alte Drucke, Handschriften und Seltene Drucke, Universitätsarchiv</a:t>
            </a: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594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Rennthiertungusin in Sommerkleidung“,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aquarellierter Kupferstich.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In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Gavrila Sarychew</a:t>
            </a:r>
            <a:r>
              <a:rPr b="0" i="1" lang="de-DE" sz="1600" spc="-1" strike="noStrike">
                <a:solidFill>
                  <a:srgbClr val="808080"/>
                </a:solidFill>
                <a:latin typeface="Arial"/>
              </a:rPr>
              <a:t>‘s Russisch-Kaiserlichen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808080"/>
                </a:solidFill>
                <a:latin typeface="Arial"/>
              </a:rPr>
              <a:t>Generalmajors von der Flotte achtjährige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808080"/>
                </a:solidFill>
                <a:latin typeface="Arial"/>
              </a:rPr>
              <a:t>Reise im nordöstlichen Sibirien, auf dem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808080"/>
                </a:solidFill>
                <a:latin typeface="Arial"/>
              </a:rPr>
              <a:t>Eismeere und dem nordöstlichen Ozean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(1805-1815),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SUB Göttingen, Russica S 265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8" name="Inhaltsplatzhalter 4" descr=""/>
          <p:cNvPicPr/>
          <p:nvPr/>
        </p:nvPicPr>
        <p:blipFill>
          <a:blip r:embed="rId1"/>
          <a:srcRect l="29208" t="8000" r="8416" b="24803"/>
          <a:stretch/>
        </p:blipFill>
        <p:spPr>
          <a:xfrm>
            <a:off x="1042920" y="1619280"/>
            <a:ext cx="302436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a3d66"/>
                </a:solidFill>
                <a:latin typeface="Arial"/>
              </a:rPr>
              <a:t>Archäologisches Institut: Münzkabinett</a:t>
            </a: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594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Profil von Asch‘s auf der sogenannten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Pest-Medaille“ mit der Inschrift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„</a:t>
            </a:r>
            <a:r>
              <a:rPr b="0" i="1" lang="de-DE" sz="1600" spc="-1" strike="noStrike">
                <a:solidFill>
                  <a:srgbClr val="808080"/>
                </a:solidFill>
                <a:latin typeface="Arial"/>
              </a:rPr>
              <a:t>Liberator a peste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“,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Durchmesser 53 mm, Gewicht 61,15 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Fußzeilenplatzhalter 4"/>
          <p:cNvSpPr/>
          <p:nvPr/>
        </p:nvSpPr>
        <p:spPr>
          <a:xfrm>
            <a:off x="2411280" y="6405480"/>
            <a:ext cx="36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[Anlass der Präsentation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Inhaltsplatzhalter 5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40388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a3d66"/>
                </a:solidFill>
                <a:latin typeface="Arial"/>
              </a:rPr>
              <a:t>Institut für Ethnologie: Ethnologische Sammlung</a:t>
            </a: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594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Vorderseite eines Schamanengewandes aus Sibirien,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Tungusen (Ewenken),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Höhe 190 cm,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As 957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Fußzeilenplatzhalter 4"/>
          <p:cNvSpPr/>
          <p:nvPr/>
        </p:nvSpPr>
        <p:spPr>
          <a:xfrm>
            <a:off x="2411280" y="6405480"/>
            <a:ext cx="36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[Anlass der Präsentation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nhaltsplatzhalter 5" descr=""/>
          <p:cNvPicPr/>
          <p:nvPr/>
        </p:nvPicPr>
        <p:blipFill>
          <a:blip r:embed="rId1"/>
          <a:srcRect l="2971" t="2101" r="1976" b="5500"/>
          <a:stretch/>
        </p:blipFill>
        <p:spPr>
          <a:xfrm>
            <a:off x="841320" y="1628640"/>
            <a:ext cx="3292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a3d66"/>
                </a:solidFill>
                <a:latin typeface="Arial"/>
              </a:rPr>
              <a:t>Geowissenschaftliches Zentrum</a:t>
            </a:r>
            <a:r>
              <a:rPr b="0" lang="en-GB" sz="2400" spc="-1" strike="noStrike">
                <a:solidFill>
                  <a:srgbClr val="1a3d66"/>
                </a:solidFill>
                <a:latin typeface="Arial"/>
              </a:rPr>
              <a:t>: Historische Sammlungen</a:t>
            </a: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594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Graphit aus der Geologischen Sammlu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mit Originaletikett – von Asch gibt Hinweis zu dessen Verwendu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Fußzeilenplatzhalter 4"/>
          <p:cNvSpPr/>
          <p:nvPr/>
        </p:nvSpPr>
        <p:spPr>
          <a:xfrm>
            <a:off x="2411280" y="6405480"/>
            <a:ext cx="36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[Anlass der Präsentation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Inhaltsplatzhalter 5" descr=""/>
          <p:cNvPicPr/>
          <p:nvPr/>
        </p:nvPicPr>
        <p:blipFill>
          <a:blip r:embed="rId1"/>
          <a:stretch/>
        </p:blipFill>
        <p:spPr>
          <a:xfrm>
            <a:off x="468360" y="1835280"/>
            <a:ext cx="403848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a3d66"/>
                </a:solidFill>
                <a:latin typeface="Arial"/>
              </a:rPr>
              <a:t>Zentrum Anatomie: Blumenbach’sche Schädelsammlung</a:t>
            </a: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594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Schädel eines Jakuten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Kratzsch, Bartholomeus (????-????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AIG.559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Fußzeilenplatzhalter 4"/>
          <p:cNvSpPr/>
          <p:nvPr/>
        </p:nvSpPr>
        <p:spPr>
          <a:xfrm>
            <a:off x="2411280" y="6405480"/>
            <a:ext cx="36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[Anlass der Präsentation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aab\Desktop\textgrid_22c25.jpg"/>
          <p:cNvPicPr/>
          <p:nvPr/>
        </p:nvPicPr>
        <p:blipFill>
          <a:blip r:embed="rId1"/>
          <a:stretch/>
        </p:blipFill>
        <p:spPr>
          <a:xfrm>
            <a:off x="652320" y="1628640"/>
            <a:ext cx="3670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a3d66"/>
                </a:solidFill>
                <a:latin typeface="Arial"/>
              </a:rPr>
              <a:t>Kunstgeschichtliches Seminar</a:t>
            </a:r>
            <a:r>
              <a:rPr b="0" lang="en-GB" sz="2400" spc="-1" strike="noStrike">
                <a:solidFill>
                  <a:srgbClr val="1a3d66"/>
                </a:solidFill>
                <a:latin typeface="Arial"/>
              </a:rPr>
              <a:t>: Kunstsammlung</a:t>
            </a:r>
            <a:endParaRPr b="0" lang="en-US" sz="2400" spc="-1" strike="noStrike">
              <a:solidFill>
                <a:srgbClr val="1a3d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5948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Georg Thomas von Asch (1729-1807)</a:t>
            </a:r>
            <a:br>
              <a:rPr sz="1600"/>
            </a:b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Gemälde von Kyrill Golowatschewski,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Öl auf Leinwand, 86 x 70 cm,</a:t>
            </a:r>
            <a:br>
              <a:rPr sz="1600"/>
            </a:b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Schenkung von 1780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Fußzeilenplatzhalter 4"/>
          <p:cNvSpPr/>
          <p:nvPr/>
        </p:nvSpPr>
        <p:spPr>
          <a:xfrm>
            <a:off x="2411280" y="6405480"/>
            <a:ext cx="36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Arial"/>
              </a:rPr>
              <a:t>[Anlass der Präsentation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nhaltsplatzhalter 4" descr=""/>
          <p:cNvPicPr/>
          <p:nvPr/>
        </p:nvPicPr>
        <p:blipFill>
          <a:blip r:embed="rId1"/>
          <a:srcRect l="15109" t="21599" r="29208" b="30050"/>
          <a:stretch/>
        </p:blipFill>
        <p:spPr>
          <a:xfrm>
            <a:off x="826920" y="1628640"/>
            <a:ext cx="360072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0T09:18:59Z</dcterms:created>
  <dc:creator>Haeberli</dc:creator>
  <dc:description/>
  <dc:language>en-US</dc:language>
  <cp:lastModifiedBy>aab aab</cp:lastModifiedBy>
  <dcterms:modified xsi:type="dcterms:W3CDTF">2014-12-01T08:26:05Z</dcterms:modified>
  <cp:revision>47</cp:revision>
  <dc:subject/>
  <dc:title>Titel der Präsentation</dc:title>
</cp:coreProperties>
</file>